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A7E-BFD3-4526-87EC-0293303E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0BC-70D5-4B7C-A00B-24727B8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EAB-BE43-4BDB-AF25-00DB38DC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E1B-9154-4116-8F36-057176B4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A15E-CD91-466C-9309-5C99076F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1022-9211-4E31-8773-6BB6027C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A52-9AF8-4B4F-88A9-ABAA436B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51CE-8126-4B91-A9ED-6B93608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14DE-12B9-4BB6-8AB4-1B647EBF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74EC-1EA2-49EA-A800-999E9C5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CAA-A0C6-4FD4-9D74-FD54253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FE6-5A23-4977-845B-C134679A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E769-6CDA-409C-B5CC-143C9E70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D78A-7C29-4243-B052-3F387B5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9422-627E-4C55-99F5-0D697A21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EF1D-3C1B-45F4-9743-A1C65D9D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47D7-2D27-4167-86DE-94A632BF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3B9-421D-4736-98FC-1CA8A16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97-3F2F-402A-B5EF-826A394D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7F9-ADF5-443D-A3C9-C6F5F0F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253-343E-4CD3-83B0-439F15C7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AB4-1182-4F5D-A0A5-CEBBC97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1E0-1D3A-4D79-9CDB-CCD0428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34B-F8BD-498F-8838-A5513E8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6B6-8CED-4215-A400-A4FAEDA5B5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770-C2BC-4982-AA59-43544BDC5C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OVAGPS9.ex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pseducationresource.com/gpsnews.htm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aching.com/" TargetMode="External"/><Relationship Id="rId2" Type="http://schemas.openxmlformats.org/officeDocument/2006/relationships/hyperlink" Target="http://www.geocaching.com/" TargetMode="External"/><Relationship Id="rId3" Type="http://schemas.openxmlformats.org/officeDocument/2006/relationships/hyperlink" Target="http://www.geocaching.com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the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lobal Positioning Syste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00" y="2000160"/>
            <a:ext cx="764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control 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contro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reiver AFB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monitor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nd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contro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5776"/>
          <a:stretch/>
        </p:blipFill>
        <p:spPr>
          <a:xfrm>
            <a:off x="5486400" y="2819520"/>
            <a:ext cx="3321000" cy="3255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PS Communication and Contro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1362240"/>
            <a:ext cx="8458200" cy="4962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Ground Control S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r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to us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ur satellites to determine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signal traveling at speed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ime from satellite to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tech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-Random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to each satel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atellites use same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d” by informatio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403848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a satellite is determined by measuring how long a radio signal takes to reach us from that satell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the measurement we assume that both the satellite and our receiver are generating the same pseudo-random codes at exactly the sam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how late the satellite's pseudo-random code appears compared to our receiver's code, we determine how long it took to reach 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at travel time by the speed of light and you've got di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igh-tech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timing is the key to measuring distance to satell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s are accurate because they have four atomic clocks ($100,000 each) on bo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clocks don't have to be too accurate because an extra satellite range measurement can remove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satellites as references for range measurements we need to know exactly where they 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atellites are so high up their orbits are very predic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PS receivers have an almanac programmed into their computers that tells them where in the sky each satellite is, moment by mo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variations in their orbits are measured by the Department of Defen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rror information is sent to the satellites, to be transmitted along with the timing sign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Position Deter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6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civili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user fee or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.7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militar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041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the GP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ing navigational satelli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 position and t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receivers calc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degradation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vailability of system’s ful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o zero Ma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911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 nav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GPS time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ionosphere and atmosphere cause delays in the GPS signal that translate into position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rrors can be factored out using mathematics and model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iguration of the satellites in the sky can magnify other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GPS can reduc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 - determining a basic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- getting from one location to an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- monitoring the movement of people and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- creating map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- bringing precise timing to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and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ing by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king, climbing, bi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, survey, ge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Channel Tu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nd 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53000" y="1836720"/>
            <a:ext cx="403380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avig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pseducationresource.com/gpsnew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–page read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page—main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corners—questions &amp; answ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ides—specific fact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s between—supporting ideas, diagrams,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le citation on back of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itary Uses for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 Desert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less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purchase of 1000 portable commercial r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9000 receivers in use by end of  th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cach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 of goodies established b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published on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a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geocaching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64924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ndheld GPS Rece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 eTr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io GPS wrist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PS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7983" b="0"/>
          <a:stretch/>
        </p:blipFill>
        <p:spPr>
          <a:xfrm>
            <a:off x="7238880" y="1600200"/>
            <a:ext cx="175284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8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177"/>
          <a:stretch/>
        </p:blipFill>
        <p:spPr>
          <a:xfrm>
            <a:off x="5486400" y="1523880"/>
            <a:ext cx="1635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Operation Jarg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point” or “Landmar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” or “Hea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/Digital Teleph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45160" y="1371600"/>
            <a:ext cx="17654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—Defense Navigation Satellite System (DNSS)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3—NAVSTAR Global Positioning System develo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8—first 4 satellit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 rocket  la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294000" cy="2471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Webs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NO NAVSTAR Home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on the GPS constel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 Stuff Works 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everyday languag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ble GPS tut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ani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Waypoint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, velocity,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al 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ory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57200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35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and Out of the Classro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times the solution is over your head . . 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—24th satellite launched; initia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5—ful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2000—Military accuracy available to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89864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orbital 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ined 5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respect to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s separated by 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,200 km elevation abov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bital period of 11 hr 5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to eight satellites visible from any poin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 Satellite Veh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GPS Constel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019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tomic c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nickel-cadmium bat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olar pa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ry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6 wat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band antenna—satellit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element L band antenna—user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IF satellite vehic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urth gene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11480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7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2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.025 feet including wing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life—1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 IIR satellite vehicle assembly at Lockheed  Martin, Valley Forge, 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6120" y="3036960"/>
            <a:ext cx="3719520" cy="344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 antennas &amp; receiver/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22:10:26Z</dcterms:created>
  <dc:creator>Frederick L. Nelson</dc:creator>
  <dc:description/>
  <dc:language>en-US</dc:language>
  <cp:lastModifiedBy>UTENTE</cp:lastModifiedBy>
  <dcterms:modified xsi:type="dcterms:W3CDTF">2008-05-26T05:28:12Z</dcterms:modified>
  <cp:revision>90</cp:revision>
  <dc:subject/>
  <dc:title>Introduction to Global Positioning Systems</dc:title>
</cp:coreProperties>
</file>