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129-C750-47B4-BF4E-FA3EE0E0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3F8-2CCB-4C47-906A-037DB72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D69-1B4B-464F-8C52-C6F9FA5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489-9B68-43C1-805D-B67F898A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3AA7-5E10-42D8-A734-1C73E3E2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92F-6D54-430F-9368-A2B07A6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23CA-35DD-407B-B189-C0B635B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9F67-4C94-4800-83D9-770C37EC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B44-AB2F-492F-93D5-9DDD85B1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047D-BA80-4302-8A97-79AAEE2B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9D90-7ADD-42B0-9ECC-5167E56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4AA-D016-4B43-AFAE-0D8510C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11E-D722-4C3E-BAD5-58FD806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A2F-E463-477A-B7CC-DB8E6C2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878E-0306-45D2-BE40-6918A2B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F8B-75D1-4170-9C19-041310D3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135-6BE4-4D7B-A074-2404914A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C7F-A4E3-4974-8A5B-241A2D1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74F-9C80-4177-8F22-9F8C494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054-8E19-4FD5-9932-8D98133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C0D-52BF-4F3F-A88F-363B71C0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89F-5031-4590-8A8C-0C7B945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7A0-2560-4593-9479-C628D75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C97-7413-450B-8DCA-B7CD9861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0CCE-44FB-4C4E-BCB7-C48F123DB3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0E5-C438-4296-B8B9-146076F4C2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OVAGPS9.ex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pseducationresource.com/gpsnews.htm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aching.com/" TargetMode="External"/><Relationship Id="rId2" Type="http://schemas.openxmlformats.org/officeDocument/2006/relationships/hyperlink" Target="http://www.geocaching.com/" TargetMode="External"/><Relationship Id="rId3" Type="http://schemas.openxmlformats.org/officeDocument/2006/relationships/hyperlink" Target="http://www.geocaching.com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the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lobal Positioning Syste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00" y="2000160"/>
            <a:ext cx="764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control 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contro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reiver AFB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monitor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nd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contro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5776"/>
          <a:stretch/>
        </p:blipFill>
        <p:spPr>
          <a:xfrm>
            <a:off x="5486400" y="2819520"/>
            <a:ext cx="3321000" cy="3255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PS Communication and Cont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362240"/>
            <a:ext cx="8458200" cy="4962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Ground Control S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r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to us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ur satellites to determine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signal traveling at speed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ime from satellite to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tech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-Rando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to each satel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atellites use same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d” by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403848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a satellite is determined by measuring how long a radio signal takes to reach us from that satell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the measurement we assume that both the satellite and our receiver are generating the same pseudo-random codes at exactly the sam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how late the satellite's pseudo-random code appears compared to our receiver's code, we determine how long it took to reach 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at travel time by the speed of light and you've got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igh-tech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timing is the key to measuring distance to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 are accurate because they have four atomic clocks ($100,000 each) on bo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clocks don't have to be too accurate because an extra satellite range measurement can remove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satellites as references for range measurements we need to know exactly where they 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tellites are so high up their orbits are very predic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PS receivers have an almanac programmed into their computers that tells them where in the sky each satellite is, moment by mo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variations in their orbits are measured by the Department of Defe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rror information is sent to the satellites, to be transmitted along with the timing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Position Deter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6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civili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user fee or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7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militar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041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GP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ing navigational satell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sition and t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receivers calc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degradation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vailability of system’s ful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zero Ma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911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GPS tim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ionosphere and atmosphere cause delays in the GPS signal that translate into position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rrors can be factored out using mathematics and mode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iguration of the satellites in the sky can magnify other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GPS can reduc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- determining a basic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- getting from one location to an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- monitoring the movement of people and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- creating map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- bringing precise timing to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and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ing by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king, climbing, bi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survey, ge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Channel Tu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nd 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836720"/>
            <a:ext cx="403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avig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pseducationresource.com/gpsne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–page read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page—main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corners—questions &amp; answ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ides—specific fact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—supporting ideas, diagrams,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 citation on back of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itary Uses for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Desert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less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purchase of 1000 portable commercial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9000 receivers in use by end of  th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cach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of goodies established b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published on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a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geocaching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64924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ndheld GPS Rece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 eTr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io GPS wrist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PS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7983" b="0"/>
          <a:stretch/>
        </p:blipFill>
        <p:spPr>
          <a:xfrm>
            <a:off x="7238880" y="1600200"/>
            <a:ext cx="175284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8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177"/>
          <a:stretch/>
        </p:blipFill>
        <p:spPr>
          <a:xfrm>
            <a:off x="5486400" y="1523880"/>
            <a:ext cx="1635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Operation Jarg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point” or “Landmar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” or “Hea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/Digital Teleph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45160" y="1371600"/>
            <a:ext cx="17654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—Defense Navigation Satellite System (DNSS)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—NAVSTAR Global Positioning System 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—first 4 satellit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rocket  la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294000" cy="24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Webs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NO NAVSTAR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on the GPS conste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 Stuff Works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veryday languag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ble GPS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ani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Waypoint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, velocity,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al 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ory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57200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3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and Out of the Classro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times the solution is over your head . . 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—24th satellite launched; initia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—ful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2000—Military accuracy available to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89864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orbital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ined 5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respect to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s separated by 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200 km elevation abov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al period of 11 hr 5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to eight satellites visible from any poin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 Satellite Veh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GPS Constel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tomic c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nickel-cadmium bat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olar pa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ry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6 wat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band antenna—satellit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element L band antenna—user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IF satellite vehic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urth gene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7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2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.025 feet including wing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life—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IIR satellite vehicle assembly at Lockheed  Martin, Valley Forge, 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6120" y="3036960"/>
            <a:ext cx="3719520" cy="34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antennas &amp; receiver/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22:10:26Z</dcterms:created>
  <dc:creator>Frederick L. Nelson</dc:creator>
  <dc:description/>
  <dc:language>en-US</dc:language>
  <cp:lastModifiedBy>UTENTE</cp:lastModifiedBy>
  <dcterms:modified xsi:type="dcterms:W3CDTF">2008-05-26T05:28:12Z</dcterms:modified>
  <cp:revision>90</cp:revision>
  <dc:subject/>
  <dc:title>Introduction to Global Positioning Systems</dc:title>
</cp:coreProperties>
</file>