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442-68BA-446D-B5E3-31D1895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ED5-84F1-4D45-B66D-8106DD68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0DE-11BA-4B59-AC81-B0297EC8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988-AF7D-4930-97E9-84AC5D10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682F-EC1D-4950-8E84-2BB0ECE2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81D9-88C8-460E-9D61-EB9C3042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652B-44C8-45E5-BDC0-027181F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A793-775E-414D-BA7A-2FCD20B0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1884-548A-43C8-82EB-E922A5F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A2AC-D32C-4B61-90AE-B6E4304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980-64B5-4CAD-8DE8-8C3ABB1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8E5-583C-40F7-BE11-0F2764AE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FC6-1771-4AD3-AEFB-A67B58D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67E6-86B7-4FCA-ABF6-B65CE6FD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B60-1FDA-49D4-A973-1B3473C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60E6-670B-459A-AC7D-481D4128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9E06-649F-4E2F-A7DD-220E2E51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DA2-CE43-4235-826D-7D18BBE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4DF-7A09-4C5B-9E75-816137AA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970-9751-467F-A809-5527A8D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AD8-5B58-4283-9F35-CB20F92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FE6-D09C-4445-BE80-DE91BEA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A8F-5F15-4785-816C-011AE08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883-1300-47E3-B5B5-A43F0EB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1F0-39E4-48FC-A989-47BA5FCA48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C71-931A-45D5-9DC9-0ACF05277B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OVAGPS9.ex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pseducationresource.com/gpsnews.htm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aching.com/" TargetMode="External"/><Relationship Id="rId2" Type="http://schemas.openxmlformats.org/officeDocument/2006/relationships/hyperlink" Target="http://www.geocaching.com/" TargetMode="External"/><Relationship Id="rId3" Type="http://schemas.openxmlformats.org/officeDocument/2006/relationships/hyperlink" Target="http://www.geocaching.com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the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lobal Positioning Syste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00" y="2000160"/>
            <a:ext cx="764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control 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contro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reiver AFB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monitor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nd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contro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5776"/>
          <a:stretch/>
        </p:blipFill>
        <p:spPr>
          <a:xfrm>
            <a:off x="5486400" y="2819520"/>
            <a:ext cx="3321000" cy="3255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PS Communication and Cont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362240"/>
            <a:ext cx="8458200" cy="4962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Ground Control S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r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to us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ur satellites to determine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signal traveling at speed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ime from satellite to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tech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-Rando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to each satel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atellites use same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d” by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403848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a satellite is determined by measuring how long a radio signal takes to reach us from that satell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the measurement we assume that both the satellite and our receiver are generating the same pseudo-random codes at exactly the sam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how late the satellite's pseudo-random code appears compared to our receiver's code, we determine how long it took to reach 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at travel time by the speed of light and you've got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igh-tech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timing is the key to measuring distance to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 are accurate because they have four atomic clocks ($100,000 each) on bo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clocks don't have to be too accurate because an extra satellite range measurement can remove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satellites as references for range measurements we need to know exactly where they 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tellites are so high up their orbits are very predic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PS receivers have an almanac programmed into their computers that tells them where in the sky each satellite is, moment by mo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variations in their orbits are measured by the Department of Defe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rror information is sent to the satellites, to be transmitted along with the timing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Position Deter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6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civili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user fee or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7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militar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041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GP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ing navigational satell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sition and t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receivers calc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degradation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vailability of system’s ful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zero Ma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911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GPS tim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ionosphere and atmosphere cause delays in the GPS signal that translate into position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rrors can be factored out using mathematics and mode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iguration of the satellites in the sky can magnify other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GPS can reduc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- determining a basic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- getting from one location to an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- monitoring the movement of people and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- creating map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- bringing precise timing to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and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ing by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king, climbing, bi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survey, ge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Channel Tu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nd 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836720"/>
            <a:ext cx="403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avig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pseducationresource.com/gpsne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–page read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page—main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corners—questions &amp; answ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ides—specific fact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—supporting ideas, diagrams,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 citation on back of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itary Uses for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Desert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less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purchase of 1000 portable commercial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9000 receivers in use by end of  th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cach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of goodies established b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published on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a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geocaching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64924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ndheld GPS Rece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 eTr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io GPS wrist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PS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7983" b="0"/>
          <a:stretch/>
        </p:blipFill>
        <p:spPr>
          <a:xfrm>
            <a:off x="7238880" y="1600200"/>
            <a:ext cx="175284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8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177"/>
          <a:stretch/>
        </p:blipFill>
        <p:spPr>
          <a:xfrm>
            <a:off x="5486400" y="1523880"/>
            <a:ext cx="1635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Operation Jarg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point” or “Landmar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” or “Hea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/Digital Teleph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45160" y="1371600"/>
            <a:ext cx="17654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—Defense Navigation Satellite System (DNSS)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—NAVSTAR Global Positioning System 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—first 4 satellit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rocket  la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294000" cy="24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Webs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NO NAVSTAR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on the GPS conste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 Stuff Works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veryday languag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ble GPS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ani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Waypoint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, velocity,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al 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ory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57200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3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and Out of the Classro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times the solution is over your head . . 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—24th satellite launched; initia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—ful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2000—Military accuracy available to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89864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orbital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ined 5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respect to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s separated by 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200 km elevation abov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al period of 11 hr 5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to eight satellites visible from any poin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 Satellite Veh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GPS Constel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tomic c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nickel-cadmium bat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olar pa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ry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6 wat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band antenna—satellit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element L band antenna—user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IF satellite vehic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urth gene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7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2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.025 feet including wing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life—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IIR satellite vehicle assembly at Lockheed  Martin, Valley Forge, 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6120" y="3036960"/>
            <a:ext cx="3719520" cy="34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antennas &amp; receiver/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22:10:26Z</dcterms:created>
  <dc:creator>Frederick L. Nelson</dc:creator>
  <dc:description/>
  <dc:language>en-US</dc:language>
  <cp:lastModifiedBy>UTENTE</cp:lastModifiedBy>
  <dcterms:modified xsi:type="dcterms:W3CDTF">2008-05-26T05:28:12Z</dcterms:modified>
  <cp:revision>90</cp:revision>
  <dc:subject/>
  <dc:title>Introduction to Global Positioning Systems</dc:title>
</cp:coreProperties>
</file>