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wmf" ContentType="image/x-wmf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EA9-1EC0-4BBB-8435-02E0A47E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A7F-27A1-42FA-90CC-7A5622A5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EAB-366B-4E24-B499-B42C06E4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C70-D9B2-4C6F-BAE1-4F7ACFBA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4D33-1141-4A0A-8589-FCF50DF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0793-29B2-4083-B45B-CDE873DD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EB71-F963-4D0C-B6A0-7A86480C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ACE-4BC9-4CA7-BB66-9DC6890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BC5-FCB3-4065-B669-30ACF8D6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CE08-0A70-4D35-B387-FF7E7C98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F583-0F6E-4901-8AF1-D5E940E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6D1-A696-42B9-A0F5-1D48E037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0AE6-3D29-4D9A-9A79-9EB4FB7E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510-4334-48AC-BF09-1E6E655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CC99-41BF-417E-8C25-E5455C51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76CA-E37F-4DE0-BC21-CBCD6554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A4E7-B673-46F2-AEE7-A5A814D0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1CB-DA7B-44F3-8E92-39EC6C5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C06-8CA1-4F3B-BD46-C888A926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9DA-FD1E-4F66-894F-D156CC2F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5AC-FC0E-4E2A-8E83-2E3E19F7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910-E1D8-4F13-8612-BA7FBBCF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741-08C5-480D-9D1D-DFA8705A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4DC-8502-4B9D-8D70-2C3D6DAC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45D-7B47-4FCD-B68A-443934F39E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B6D-313F-4FA8-BAED-1A2DAD60C5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NOVAGPS9.ex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pseducationresource.com/gpsnews.htm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aching.com/" TargetMode="External"/><Relationship Id="rId2" Type="http://schemas.openxmlformats.org/officeDocument/2006/relationships/hyperlink" Target="http://www.geocaching.com/" TargetMode="External"/><Relationship Id="rId3" Type="http://schemas.openxmlformats.org/officeDocument/2006/relationships/hyperlink" Target="http://www.geocaching.com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the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lobal Positioning Syste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00" y="2000160"/>
            <a:ext cx="764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und control se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contro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reiver AFB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monitor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ground anten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up contro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5776"/>
          <a:stretch/>
        </p:blipFill>
        <p:spPr>
          <a:xfrm>
            <a:off x="5486400" y="2819520"/>
            <a:ext cx="3321000" cy="3255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GPS Communication and Contro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0880" y="1362240"/>
            <a:ext cx="8458200" cy="4962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Ground Control St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 ran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ellite to us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ur satellites to determine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signal traveling at speed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ime from satellite to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tech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-Random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to each satel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atellites use same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ed” by informatio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403848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a satellite is determined by measuring how long a radio signal takes to reach us from that satelli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ke the measurement we assume that both the satellite and our receiver are generating the same pseudo-random codes at exactly the same ti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how late the satellite's pseudo-random code appears compared to our receiver's code, we determine how long it took to reach 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at travel time by the speed of light and you've got di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igh-tech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timing is the key to measuring distance to satell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ellites are accurate because they have four atomic clocks ($100,000 each) on boa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r clocks don't have to be too accurate because an extra satellite range measurement can remove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GPS wor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se the satellites as references for range measurements we need to know exactly where they 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satellites are so high up their orbits are very predic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PS receivers have an almanac programmed into their computers that tells them where in the sky each satellite is, moment by mo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or variations in their orbits are measured by the Department of Defen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rror information is sent to the satellites, to be transmitted along with the timing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Position Deter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6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civili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user fee or restri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Position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meters horizont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.7 meters vertical accu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for military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04164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the GP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biting navigational satell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sition and tim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held receivers calc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ve 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tional degradation of sig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availability of system’s ful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zero Ma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911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 nav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GPS time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ystem Performa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th's ionosphere and atmosphere cause delays in the GPS signal that translate into position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rrors can be factored out using mathematics and model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iguration of the satellites in the sky can magnify other err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l GPS can reduc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 - determining a basic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 - getting from one location to an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ing - monitoring the movement of people and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ping - creating map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- bringing precise timing to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pplication of GPS Technolo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and re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ing by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king, climbing, bi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, survey, ge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Channel Tu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and 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53000" y="1836720"/>
            <a:ext cx="403380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avig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52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Ne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gpseducationresource.com/gpsne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–page read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page—main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corners—questions &amp; answer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sides—specific facts from 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s between—supporting ideas, diagrams,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cle citation on back of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itary Uses for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 Desert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less ter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purchase of 1000 portable commercial rece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9000 receivers in use by end of  the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 vess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cach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of goodies established b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published on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a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some tr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geocaching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64924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andheld GPS Receiv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 eTr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min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io GPS wristw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PS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7983" b="0"/>
          <a:stretch/>
        </p:blipFill>
        <p:spPr>
          <a:xfrm>
            <a:off x="7238880" y="1600200"/>
            <a:ext cx="175284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05320" y="4114800"/>
            <a:ext cx="18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0" b="2177"/>
          <a:stretch/>
        </p:blipFill>
        <p:spPr>
          <a:xfrm>
            <a:off x="5486400" y="1523880"/>
            <a:ext cx="1635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Operation Jarg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point” or “Landmar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” or “Hea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r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/Digital Teleph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45160" y="1371600"/>
            <a:ext cx="17654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—Defense Navigation Satellite System (DNSS)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3—NAVSTAR Global Positioning System develo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8—first 4 satellit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n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ta rocket  la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294000" cy="2471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Webs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NO NAVSTAR Home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on the GPS conste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w Stuff Works G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everyday languag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mble GPS tut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 ani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PS Waypoint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, velocity,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al conce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ratory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2506680"/>
            <a:ext cx="457200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ssroom Applic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ro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car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435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and Out of the Classro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times the solution is over your head . . 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133720" y="203688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the G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—24th satellite launched; initia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5—full operational cap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2000—Military accuracy available to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898640"/>
            <a:ext cx="3809880" cy="3711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e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satellite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 orbital 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ined 5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respect to equ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bits separated by 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,200 km elevation abov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al period of 11 hr 55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to eight satellites visible from any poin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 Satellite Veh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GPS Constel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019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tomic c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nickel-cadmium bat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solar pa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ry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36 wat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band antenna—satellit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element L band antenna—user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IIF satellite vehic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ourth gene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11480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PS Satellite Vehic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70 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2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.025 feet including wing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life—1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 IIR satellite vehicle assembly at Lockheed  Martin, Valley Forge, 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460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6120" y="3036960"/>
            <a:ext cx="3719520" cy="344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ponents of the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e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 antennas &amp; receiver/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22:10:26Z</dcterms:created>
  <dc:creator>Frederick L. Nelson</dc:creator>
  <dc:description/>
  <dc:language>en-US</dc:language>
  <cp:lastModifiedBy>UTENTE</cp:lastModifiedBy>
  <dcterms:modified xsi:type="dcterms:W3CDTF">2008-05-26T05:28:12Z</dcterms:modified>
  <cp:revision>90</cp:revision>
  <dc:subject/>
  <dc:title>Introduction to Global Positioning Systems</dc:title>
</cp:coreProperties>
</file>