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embeddings/oleObject14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520" y="36331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97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080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8080" y="15235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52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080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8080" y="3633120"/>
            <a:ext cx="21589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377640"/>
            <a:ext cx="7162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9720" y="36331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720" y="1523520"/>
            <a:ext cx="327204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3633120"/>
            <a:ext cx="6705720" cy="19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659640"/>
            <a:ext cx="294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P TECH SCHOOL seminar / 23.11.1998  /  slide  </a:t>
            </a:r>
            <a:fld id="{C759F123-A5D4-4DAD-926C-C00D94DC1F0B}" type="slidenum">
              <a:rPr b="0" i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0520" y="6492960"/>
            <a:ext cx="6689520" cy="168120"/>
          </a:xfrm>
          <a:custGeom>
            <a:avLst/>
            <a:gdLst/>
            <a:ahLst/>
            <a:rect l="l" t="t" r="r" b="b"/>
            <a:pathLst>
              <a:path w="4214" h="106">
                <a:moveTo>
                  <a:pt x="0" y="0"/>
                </a:moveTo>
                <a:lnTo>
                  <a:pt x="4213" y="0"/>
                </a:lnTo>
                <a:lnTo>
                  <a:pt x="4213" y="105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eb8fe"/>
              </a:gs>
              <a:gs pos="100000">
                <a:srgbClr val="007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02600" y="6283440"/>
            <a:ext cx="1358640" cy="401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60520" y="0"/>
            <a:ext cx="8051760" cy="168120"/>
          </a:xfrm>
          <a:custGeom>
            <a:avLst/>
            <a:gdLst/>
            <a:ahLst/>
            <a:rect l="l" t="t" r="r" b="b"/>
            <a:pathLst>
              <a:path w="5072" h="106">
                <a:moveTo>
                  <a:pt x="0" y="0"/>
                </a:moveTo>
                <a:lnTo>
                  <a:pt x="5071" y="0"/>
                </a:lnTo>
                <a:lnTo>
                  <a:pt x="5071" y="105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73ff"/>
              </a:gs>
              <a:gs pos="100000">
                <a:srgbClr val="7eb8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6640" y="6478560"/>
            <a:ext cx="19432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NOKIA TELECOMMUN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eneral Packet Radio Service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GPR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teri Lappal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1.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Tec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the material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omas Niemelä (-97), Hannu H. Kari (-98) and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6. Applic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7640" y="1523520"/>
            <a:ext cx="75610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ata network protocol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bas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, FTP, Telne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onventional TCP/IP bas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25 based appl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Assembly/Disassembly (PAD) type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specific protocol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to-point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l road system, UIC train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to-multipoint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info, road traffic info, news, flee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delivery (GPRS as a bearer for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 GPRS architectu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485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Interfaces, reference points and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Functional view on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Subscription of GPR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 New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1. G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2.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3.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.4. GPRS backb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. GPRS Mobil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. MS multislo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1. Interfaces, reference points and network elem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8720" y="1380960"/>
          <a:ext cx="742644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80960"/>
                    <a:ext cx="742644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2. Functional view on GP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6200" y="1143000"/>
            <a:ext cx="868032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23880" y="1219320"/>
          <a:ext cx="6477120" cy="546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647712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ssignment of functions to general logical architectu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3. Subscription of GPRS service (1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8000" y="11426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ption storage: H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Subscriber Profile (M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dentification: I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several PDP addresses pe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scribed configuration cont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P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P, X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P address (static, e.g. 128.200.192.6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bed Q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1…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ddress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LMN address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 addr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ing information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3. Subscription of GPRS service (2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ption is copied from HLR to SGSN during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PDP context is copied to relevant GGSNs when a PDP address is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PDP address allocatio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address allocated from H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dress allocated from H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dress allocated from VPL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LMN operator specifies which alternative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1. Gateway GPRS Support No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40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located at one of the MSC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(or few) per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external data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mbles to a data network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end user data to right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mobile originated packets to right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end use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s charging information for data network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ackets are not sent to MS unless the user has activated the PD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2. Serving GPRS Support No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8000" y="1294920"/>
            <a:ext cx="6705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ly connected with BSC, physically can be at MSC or BSC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or few BSCs or one (or few) per every BS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GSN can support BSCs of several MSC si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s GPRS mo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obile’s registration in GPR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obile’s mobilit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s MO and MT data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IP header compression, V.42bis data compression, error control MS- SGSN (AR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charging information of air interface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3. Other elem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 (Border Gate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defined within G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packets from SGSN/GGSN of one operator to a SGSN/GGSN of an other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protection against intruders from exter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(Domain Name Serv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s addresses from ggsn1.oper1.fi -format to 123.45.67.89 format (i.e. as used in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ing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s charging information from SGSNs and GGS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M-SC (Point to Multipoint -Servic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Multicast (PTM-M): Downlink broadcast; no subscription; no cip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Group call (PTM-G): Closed or open groups; Down/up -link; ciph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area lim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reless roadmap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0000">
            <a:off x="2285640" y="1625760"/>
            <a:ext cx="3965400" cy="4584600"/>
          </a:xfrm>
          <a:prstGeom prst="ellipse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43440" y="1658880"/>
            <a:ext cx="1581120" cy="2533680"/>
          </a:xfrm>
          <a:custGeom>
            <a:avLst/>
            <a:gdLst/>
            <a:ahLst/>
            <a:rect l="l" t="t" r="r" b="b"/>
            <a:pathLst>
              <a:path w="996" h="1596">
                <a:moveTo>
                  <a:pt x="0" y="56"/>
                </a:moveTo>
                <a:lnTo>
                  <a:pt x="38" y="51"/>
                </a:lnTo>
                <a:lnTo>
                  <a:pt x="67" y="42"/>
                </a:lnTo>
                <a:lnTo>
                  <a:pt x="103" y="29"/>
                </a:lnTo>
                <a:lnTo>
                  <a:pt x="143" y="17"/>
                </a:lnTo>
                <a:lnTo>
                  <a:pt x="178" y="6"/>
                </a:lnTo>
                <a:lnTo>
                  <a:pt x="210" y="2"/>
                </a:lnTo>
                <a:lnTo>
                  <a:pt x="245" y="0"/>
                </a:lnTo>
                <a:lnTo>
                  <a:pt x="289" y="10"/>
                </a:lnTo>
                <a:lnTo>
                  <a:pt x="336" y="25"/>
                </a:lnTo>
                <a:lnTo>
                  <a:pt x="413" y="57"/>
                </a:lnTo>
                <a:lnTo>
                  <a:pt x="488" y="99"/>
                </a:lnTo>
                <a:lnTo>
                  <a:pt x="568" y="153"/>
                </a:lnTo>
                <a:lnTo>
                  <a:pt x="641" y="211"/>
                </a:lnTo>
                <a:lnTo>
                  <a:pt x="678" y="245"/>
                </a:lnTo>
                <a:lnTo>
                  <a:pt x="737" y="308"/>
                </a:lnTo>
                <a:lnTo>
                  <a:pt x="802" y="392"/>
                </a:lnTo>
                <a:lnTo>
                  <a:pt x="853" y="483"/>
                </a:lnTo>
                <a:lnTo>
                  <a:pt x="886" y="550"/>
                </a:lnTo>
                <a:lnTo>
                  <a:pt x="920" y="636"/>
                </a:lnTo>
                <a:lnTo>
                  <a:pt x="939" y="700"/>
                </a:lnTo>
                <a:lnTo>
                  <a:pt x="959" y="767"/>
                </a:lnTo>
                <a:lnTo>
                  <a:pt x="970" y="831"/>
                </a:lnTo>
                <a:lnTo>
                  <a:pt x="984" y="914"/>
                </a:lnTo>
                <a:lnTo>
                  <a:pt x="993" y="993"/>
                </a:lnTo>
                <a:lnTo>
                  <a:pt x="995" y="1088"/>
                </a:lnTo>
                <a:lnTo>
                  <a:pt x="991" y="1167"/>
                </a:lnTo>
                <a:lnTo>
                  <a:pt x="984" y="1216"/>
                </a:lnTo>
                <a:lnTo>
                  <a:pt x="978" y="1262"/>
                </a:lnTo>
                <a:lnTo>
                  <a:pt x="965" y="1344"/>
                </a:lnTo>
                <a:lnTo>
                  <a:pt x="944" y="1440"/>
                </a:lnTo>
                <a:lnTo>
                  <a:pt x="926" y="1521"/>
                </a:lnTo>
                <a:lnTo>
                  <a:pt x="911" y="1582"/>
                </a:lnTo>
                <a:lnTo>
                  <a:pt x="899" y="1595"/>
                </a:lnTo>
                <a:lnTo>
                  <a:pt x="896" y="1252"/>
                </a:lnTo>
                <a:lnTo>
                  <a:pt x="0" y="56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80000">
            <a:off x="2251080" y="1596960"/>
            <a:ext cx="3962520" cy="4584600"/>
          </a:xfrm>
          <a:prstGeom prst="ellipse">
            <a:avLst/>
          </a:prstGeom>
          <a:solidFill>
            <a:srgbClr val="6c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5280" y="1631880"/>
            <a:ext cx="1582920" cy="2511360"/>
          </a:xfrm>
          <a:custGeom>
            <a:avLst/>
            <a:gdLst/>
            <a:ahLst/>
            <a:rect l="l" t="t" r="r" b="b"/>
            <a:pathLst>
              <a:path w="997" h="1582">
                <a:moveTo>
                  <a:pt x="0" y="56"/>
                </a:moveTo>
                <a:lnTo>
                  <a:pt x="38" y="51"/>
                </a:lnTo>
                <a:lnTo>
                  <a:pt x="67" y="42"/>
                </a:lnTo>
                <a:lnTo>
                  <a:pt x="103" y="29"/>
                </a:lnTo>
                <a:lnTo>
                  <a:pt x="143" y="17"/>
                </a:lnTo>
                <a:lnTo>
                  <a:pt x="178" y="6"/>
                </a:lnTo>
                <a:lnTo>
                  <a:pt x="210" y="2"/>
                </a:lnTo>
                <a:lnTo>
                  <a:pt x="245" y="0"/>
                </a:lnTo>
                <a:lnTo>
                  <a:pt x="289" y="10"/>
                </a:lnTo>
                <a:lnTo>
                  <a:pt x="336" y="25"/>
                </a:lnTo>
                <a:lnTo>
                  <a:pt x="413" y="57"/>
                </a:lnTo>
                <a:lnTo>
                  <a:pt x="488" y="99"/>
                </a:lnTo>
                <a:lnTo>
                  <a:pt x="568" y="153"/>
                </a:lnTo>
                <a:lnTo>
                  <a:pt x="641" y="211"/>
                </a:lnTo>
                <a:lnTo>
                  <a:pt x="678" y="245"/>
                </a:lnTo>
                <a:lnTo>
                  <a:pt x="737" y="308"/>
                </a:lnTo>
                <a:lnTo>
                  <a:pt x="802" y="392"/>
                </a:lnTo>
                <a:lnTo>
                  <a:pt x="829" y="435"/>
                </a:lnTo>
                <a:lnTo>
                  <a:pt x="853" y="482"/>
                </a:lnTo>
                <a:lnTo>
                  <a:pt x="873" y="517"/>
                </a:lnTo>
                <a:lnTo>
                  <a:pt x="891" y="554"/>
                </a:lnTo>
                <a:lnTo>
                  <a:pt x="906" y="590"/>
                </a:lnTo>
                <a:lnTo>
                  <a:pt x="925" y="635"/>
                </a:lnTo>
                <a:lnTo>
                  <a:pt x="935" y="667"/>
                </a:lnTo>
                <a:lnTo>
                  <a:pt x="942" y="698"/>
                </a:lnTo>
                <a:lnTo>
                  <a:pt x="951" y="730"/>
                </a:lnTo>
                <a:lnTo>
                  <a:pt x="959" y="766"/>
                </a:lnTo>
                <a:lnTo>
                  <a:pt x="974" y="830"/>
                </a:lnTo>
                <a:lnTo>
                  <a:pt x="978" y="863"/>
                </a:lnTo>
                <a:lnTo>
                  <a:pt x="984" y="913"/>
                </a:lnTo>
                <a:lnTo>
                  <a:pt x="990" y="947"/>
                </a:lnTo>
                <a:lnTo>
                  <a:pt x="993" y="994"/>
                </a:lnTo>
                <a:lnTo>
                  <a:pt x="996" y="1043"/>
                </a:lnTo>
                <a:lnTo>
                  <a:pt x="995" y="1087"/>
                </a:lnTo>
                <a:lnTo>
                  <a:pt x="992" y="1161"/>
                </a:lnTo>
                <a:lnTo>
                  <a:pt x="986" y="1219"/>
                </a:lnTo>
                <a:lnTo>
                  <a:pt x="978" y="1262"/>
                </a:lnTo>
                <a:lnTo>
                  <a:pt x="965" y="1343"/>
                </a:lnTo>
                <a:lnTo>
                  <a:pt x="944" y="1439"/>
                </a:lnTo>
                <a:lnTo>
                  <a:pt x="926" y="1513"/>
                </a:lnTo>
                <a:lnTo>
                  <a:pt x="920" y="1546"/>
                </a:lnTo>
                <a:lnTo>
                  <a:pt x="906" y="1581"/>
                </a:lnTo>
                <a:lnTo>
                  <a:pt x="896" y="1252"/>
                </a:lnTo>
                <a:lnTo>
                  <a:pt x="0" y="56"/>
                </a:lnTo>
              </a:path>
            </a:pathLst>
          </a:custGeom>
          <a:solidFill>
            <a:srgbClr val="6c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0440" y="2131920"/>
            <a:ext cx="1231920" cy="1951200"/>
          </a:xfrm>
          <a:custGeom>
            <a:avLst/>
            <a:gdLst/>
            <a:ahLst/>
            <a:rect l="l" t="t" r="r" b="b"/>
            <a:pathLst>
              <a:path w="776" h="1229">
                <a:moveTo>
                  <a:pt x="0" y="43"/>
                </a:moveTo>
                <a:lnTo>
                  <a:pt x="30" y="40"/>
                </a:lnTo>
                <a:lnTo>
                  <a:pt x="52" y="33"/>
                </a:lnTo>
                <a:lnTo>
                  <a:pt x="80" y="23"/>
                </a:lnTo>
                <a:lnTo>
                  <a:pt x="111" y="13"/>
                </a:lnTo>
                <a:lnTo>
                  <a:pt x="138" y="4"/>
                </a:lnTo>
                <a:lnTo>
                  <a:pt x="164" y="2"/>
                </a:lnTo>
                <a:lnTo>
                  <a:pt x="190" y="0"/>
                </a:lnTo>
                <a:lnTo>
                  <a:pt x="225" y="8"/>
                </a:lnTo>
                <a:lnTo>
                  <a:pt x="262" y="19"/>
                </a:lnTo>
                <a:lnTo>
                  <a:pt x="322" y="44"/>
                </a:lnTo>
                <a:lnTo>
                  <a:pt x="380" y="77"/>
                </a:lnTo>
                <a:lnTo>
                  <a:pt x="443" y="119"/>
                </a:lnTo>
                <a:lnTo>
                  <a:pt x="499" y="164"/>
                </a:lnTo>
                <a:lnTo>
                  <a:pt x="528" y="190"/>
                </a:lnTo>
                <a:lnTo>
                  <a:pt x="574" y="239"/>
                </a:lnTo>
                <a:lnTo>
                  <a:pt x="625" y="304"/>
                </a:lnTo>
                <a:lnTo>
                  <a:pt x="665" y="375"/>
                </a:lnTo>
                <a:lnTo>
                  <a:pt x="690" y="427"/>
                </a:lnTo>
                <a:lnTo>
                  <a:pt x="717" y="493"/>
                </a:lnTo>
                <a:lnTo>
                  <a:pt x="732" y="544"/>
                </a:lnTo>
                <a:lnTo>
                  <a:pt x="747" y="595"/>
                </a:lnTo>
                <a:lnTo>
                  <a:pt x="756" y="645"/>
                </a:lnTo>
                <a:lnTo>
                  <a:pt x="766" y="709"/>
                </a:lnTo>
                <a:lnTo>
                  <a:pt x="773" y="772"/>
                </a:lnTo>
                <a:lnTo>
                  <a:pt x="775" y="845"/>
                </a:lnTo>
                <a:lnTo>
                  <a:pt x="769" y="904"/>
                </a:lnTo>
                <a:lnTo>
                  <a:pt x="766" y="944"/>
                </a:lnTo>
                <a:lnTo>
                  <a:pt x="762" y="980"/>
                </a:lnTo>
                <a:lnTo>
                  <a:pt x="752" y="1043"/>
                </a:lnTo>
                <a:lnTo>
                  <a:pt x="735" y="1118"/>
                </a:lnTo>
                <a:lnTo>
                  <a:pt x="705" y="1228"/>
                </a:lnTo>
                <a:lnTo>
                  <a:pt x="698" y="972"/>
                </a:lnTo>
                <a:lnTo>
                  <a:pt x="0" y="43"/>
                </a:lnTo>
              </a:path>
            </a:pathLst>
          </a:custGeom>
          <a:solidFill>
            <a:srgbClr val="16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80000">
            <a:off x="2597040" y="2106720"/>
            <a:ext cx="3098880" cy="3560760"/>
          </a:xfrm>
          <a:prstGeom prst="ellipse">
            <a:avLst/>
          </a:prstGeom>
          <a:solidFill>
            <a:srgbClr val="16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">
            <a:off x="3279240" y="2538360"/>
            <a:ext cx="2349720" cy="3081240"/>
          </a:xfrm>
          <a:prstGeom prst="ellipse">
            <a:avLst/>
          </a:prstGeom>
          <a:solidFill>
            <a:srgbClr val="00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740000">
            <a:off x="2793960" y="2280960"/>
            <a:ext cx="2643120" cy="3124080"/>
          </a:xfrm>
          <a:prstGeom prst="ellipse">
            <a:avLst/>
          </a:prstGeom>
          <a:solidFill>
            <a:srgbClr val="04ef91"/>
          </a:solidFill>
          <a:ln w="0">
            <a:noFill/>
          </a:ln>
          <a:effectLst>
            <a:outerShdw dist="53966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740000">
            <a:off x="3006720" y="2611080"/>
            <a:ext cx="2052720" cy="2401920"/>
          </a:xfrm>
          <a:prstGeom prst="ellipse">
            <a:avLst/>
          </a:prstGeom>
          <a:solidFill>
            <a:srgbClr val="2bb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40000">
            <a:off x="3319200" y="2887560"/>
            <a:ext cx="1714320" cy="2073240"/>
          </a:xfrm>
          <a:prstGeom prst="ellipse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90640" y="2511360"/>
            <a:ext cx="3592800" cy="211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1120" y="2155680"/>
            <a:ext cx="3411360" cy="202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740000">
            <a:off x="3209760" y="2819520"/>
            <a:ext cx="1627200" cy="1925640"/>
          </a:xfrm>
          <a:prstGeom prst="ellipse">
            <a:avLst/>
          </a:prstGeom>
          <a:solidFill>
            <a:srgbClr val="fafd00"/>
          </a:solidFill>
          <a:ln w="0">
            <a:noFill/>
          </a:ln>
          <a:effectLst>
            <a:outerShdw dist="53966" dir="2700000" blurRad="0" rotWithShape="0">
              <a:srgbClr val="e3e6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40000">
            <a:off x="3513240" y="3249360"/>
            <a:ext cx="890640" cy="1033200"/>
          </a:xfrm>
          <a:prstGeom prst="ellipse">
            <a:avLst/>
          </a:prstGeom>
          <a:solidFill>
            <a:srgbClr val="e3e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740000">
            <a:off x="3521160" y="3238560"/>
            <a:ext cx="866520" cy="1030320"/>
          </a:xfrm>
          <a:prstGeom prst="ellipse">
            <a:avLst/>
          </a:prstGeom>
          <a:gradFill rotWithShape="0">
            <a:gsLst>
              <a:gs pos="0">
                <a:srgbClr val="e3e62d"/>
              </a:gs>
              <a:gs pos="100000">
                <a:srgbClr val="b4b7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740000">
            <a:off x="3616200" y="3387600"/>
            <a:ext cx="654120" cy="7588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fc7f92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22360" y="4737240"/>
          <a:ext cx="20923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4737240"/>
                    <a:ext cx="20923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778120" y="4205160"/>
          <a:ext cx="16588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8120" y="4205160"/>
                    <a:ext cx="16588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614760" y="3386160"/>
          <a:ext cx="65232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386160"/>
                    <a:ext cx="652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63680" y="2293920"/>
          <a:ext cx="417600" cy="22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3680" y="2293920"/>
                    <a:ext cx="41760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671920" y="1962000"/>
          <a:ext cx="344160" cy="185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1920" y="1962000"/>
                    <a:ext cx="344160" cy="1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05280" y="1638360"/>
          <a:ext cx="480960" cy="22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5280" y="1638360"/>
                    <a:ext cx="48096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40240" y="1333440"/>
          <a:ext cx="534960" cy="24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40240" y="1333440"/>
                    <a:ext cx="53496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53000" y="1089000"/>
          <a:ext cx="60300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53000" y="1089000"/>
                    <a:ext cx="6030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340320" y="4392720"/>
          <a:ext cx="627120" cy="39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40320" y="4392720"/>
                    <a:ext cx="627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72080" y="3978360"/>
          <a:ext cx="627120" cy="399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2080" y="397836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543720" y="3411360"/>
          <a:ext cx="627120" cy="39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43720" y="3411360"/>
                    <a:ext cx="627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518160" y="2770200"/>
          <a:ext cx="627120" cy="39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8160" y="277020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256440" y="2062080"/>
          <a:ext cx="628560" cy="398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56440" y="2062080"/>
                    <a:ext cx="628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388200" y="1766880"/>
          <a:ext cx="627120" cy="399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88200" y="1766880"/>
                    <a:ext cx="627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130720" y="1693800"/>
          <a:ext cx="736560" cy="539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30720" y="1693800"/>
                    <a:ext cx="736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90880" y="1779480"/>
          <a:ext cx="1063800" cy="273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90880" y="1779480"/>
                    <a:ext cx="106380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19640" y="2349360"/>
          <a:ext cx="736560" cy="540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319640" y="2349360"/>
                    <a:ext cx="7365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003560" y="2835360"/>
          <a:ext cx="735120" cy="539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003560" y="2835360"/>
                    <a:ext cx="735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672000" y="3068640"/>
          <a:ext cx="941400" cy="671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2000" y="3068640"/>
                    <a:ext cx="9414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 flipV="1">
            <a:off x="3479400" y="1841400"/>
            <a:ext cx="93996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2720" y="2768760"/>
            <a:ext cx="1479600" cy="88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1360" y="2044800"/>
            <a:ext cx="1631880" cy="9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24520" y="2120760"/>
            <a:ext cx="29196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83120" y="1574280"/>
            <a:ext cx="342720" cy="2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971600" y="1536840"/>
            <a:ext cx="330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19520" y="3352680"/>
            <a:ext cx="1969920" cy="1430280"/>
            <a:chOff x="2819520" y="3352680"/>
            <a:chExt cx="1969920" cy="1430280"/>
          </a:xfrm>
        </p:grpSpPr>
        <p:graphicFrame>
          <p:nvGraphicFramePr>
            <p:cNvPr id="107" name=""/>
            <p:cNvGraphicFramePr/>
            <p:nvPr/>
          </p:nvGraphicFramePr>
          <p:xfrm>
            <a:off x="2819520" y="3352680"/>
            <a:ext cx="1155600" cy="10094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819520" y="3352680"/>
                      <a:ext cx="1155600" cy="10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3456000" y="3695400"/>
            <a:ext cx="1333440" cy="1087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456000" y="3695400"/>
                      <a:ext cx="133344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4.4. GPRS backbon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7640" y="1523520"/>
            <a:ext cx="7637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communication between GPRS Support No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private I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is the ultimat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can be used as an intermediat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PLMN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GPRS Support Nodes of one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decides the network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, point-to-point links, ATM, ISDN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PLMN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GPRS operators via B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ternational GPRS 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 decide the backbone in the roaming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5. GPRS mobile typ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0440" y="1294920"/>
            <a:ext cx="8170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 GPRS and conventional GSM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simultaneous circuit switched and GPRS data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ttached to both GPRS and conventional GSM services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listen circuit switched and GPRS pages (via GP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either circuit switched calls or GPRS data transfer but not simultaneou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 attached in GPRS or conventional 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multaneous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only’ mobiles also possible (e.g. for telemetric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.6. GPRS multislot capabiliti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53960" y="14479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341440" y="1682640"/>
          <a:ext cx="54309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1682640"/>
                    <a:ext cx="5430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336760" y="3160800"/>
          <a:ext cx="531504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3160800"/>
                    <a:ext cx="53150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413080" y="4506840"/>
          <a:ext cx="522288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4506840"/>
                    <a:ext cx="52228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097640" y="2054160"/>
            <a:ext cx="894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3600" y="3424320"/>
            <a:ext cx="894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20960" y="4719600"/>
            <a:ext cx="122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8 -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 GPRS oper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 Security: Basic security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key management, cip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 Data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, MT, MO+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 Interworking with GS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1. Security: Based on GSM phase 2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uses same principle as MSC/VL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riplet, send RAND to MS, wait for SRES from MS, use 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’t authenticate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management in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c generated same way from RAND using Ki as in 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 algorithm is optimized for GPRS traffic (‘GPRS - A5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ing is done between MS and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SI is only used if a temporary identity is no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identity (TLLI) is exchanged over ciphered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2. GPRS Attach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73324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Attach function is similar to IMSI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 the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iphering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cip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temporary identity (TL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subscriber profile from HLR to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PRS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mobile is tr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MS and SGSN is sec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information is col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knows what the subscriber is allowed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R knows the location of the MS in accuracy of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: Basic rules (1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terpret user data, 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 may perform TCP/IP header compre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interpret source or destination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ll packets to specified GGSN that handles the PDP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S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optional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where and how to rout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2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originated (left when MS in HPLMN, right when in VPLMN, no filtering/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68400" y="2057400"/>
            <a:ext cx="7399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3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rminated (left when MS in HPLMN, right when in VPLMN, with/without filtering/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2705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3. Data transfer (4/4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originated and terminated (left MSs in same PLMN, right MSs in different PL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2080" y="2133720"/>
            <a:ext cx="714528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1426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troduction to G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PR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PRS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GPR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interface resource 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to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working with GSM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920" y="1142640"/>
            <a:ext cx="35049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peci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PRS business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ust be investe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ke money with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' benefits of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GPR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1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8000" y="1294920"/>
            <a:ext cx="6705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Location Area, GPRS uses Routing Areas to group cells. RA is a subset of 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s not known by the network (SG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’s location is known in accuracy of Rou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 utilize DRX (to save batt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ust inform its location after every Routing Area change (no need to inform if MS changes from one cell to another within same Routing Ar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network can perform MT data transfer MS must be paged within the Rou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ay initiate MO data transfer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2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’s location is known in accuracy of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must inform its location after every cel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an initiate MO data transfer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does not need to page the MS before MT data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listens continuously GPRS PCCCH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X in READY state is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4. Mobility management (3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 mess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update (implicit, with any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S changes the cell within a Routing Area in R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Area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S changes the cell between two Routing Areas in READY or STAND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Routing Area Updates (from MS’s point of view only one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-SGSN Routing Area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SGSN Routing Area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Routing Area updates are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1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8000" y="1218960"/>
            <a:ext cx="67053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can interwork with GSM services through Gs-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Gs interface exi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location update procedure is indicated by the network in the response message to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n different MS classes if Gs does not ex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class mobiles must use conventional GSM services via normal GSM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class mobiles won’t get simultaneous support from the network. Depending on MS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can try listen both paging channels simultaneously by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does IMSI detach and use only GPR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ffect on C-class mobiles as simultaneous services are not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2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GPRS and IMSI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radi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ndicates its request for combined att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sends combined GPRS and IMSI attach to SG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may authenticate the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informs MSC/VLR about the new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ocation and Routing Area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radi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indicates its request for combined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one when both Location Area and Routing Area changes at the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Location and Routing Area update is not done if MS has CS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8560" y="3776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.5. Interworking with GSM services (3/3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584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CS services via GPR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gets MT call or 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VLR, presence of SGSN address tells that the MS is in GPRS attach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sends the paging request to SGSN address (not to B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checks the location of MS (identified by I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pages the MS via GPRS channels indicating “CS page”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replies to the page using normal GSM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 Special issu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Cha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 O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 Supplement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 Quality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6.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1 Special issues: SMS suppor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 and MT SMSs can be carried via GPR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R stores and returns two SS7 addresses to GMS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/VL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SGSN, if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MSC/VLR, if available and primary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2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PRS charging of PTP (1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gathers char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radio resources (packets,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packet data protocols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ignaling messages, GPRS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SN gathers charg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/source of data p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external data networks (packets,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selects what information is used for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2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PRS charging of PTM (2/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gathers usag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radio re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M Service Center gathers charg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general GPRS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PTM-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 Introduction to GP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. What is GP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. GPRS access interfaces and referen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. How is GPRS seen by external networks and GPR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. Air interfac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. GPRS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.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3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peration and managemen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related parts can be handled with 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backbone network is based on IP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network uses Simple Network Management Protocol (SN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9003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4 Special issues: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pplementary servic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8000" y="1523520"/>
            <a:ext cx="67053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conventional GSM supplementary services are not applic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ll forwarding when busy, Calling line identification, Call 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pplementary services may be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 of charge (can be difficult to real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user group (can be implemented as part of external data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has its own supplement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ing of GPRS Interworking Profil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 Quality of Servic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edence class (1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 class (1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throughput clas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 throughput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.1 Reliability Clas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liability is defined in terms of the residual error rates for the following cases (see GSM 02.6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ata delivered out of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duplicate data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spcAft>
                <a:spcPts val="901"/>
              </a:spcAft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ability of corrup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5.2 Throughput class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47920" y="914400"/>
          <a:ext cx="62784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2784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447920" y="2971800"/>
          <a:ext cx="6278400" cy="36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971800"/>
                    <a:ext cx="62784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1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SN that handles 2 Mbps up and downlink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 packet size 500 octets (4000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Each packet must be processed totally every 1 milli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stack in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UDP (de)fragmentation, IP check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P header processing, finding the right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paging of the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ession in SNDCP level, possible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LC CRC, LLC acknowledges, LLC 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 GPRS ciphering/decip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SGP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 relay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6640" y="1031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2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ing the QoS for every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pending packets to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cheduling everything after MS has changed th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charging data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SGSN operating system, task switch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diagnostics of the network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GSN handles 65 Mbps, instead of 2 Mb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SGSN has just about 30 micro seconds to do all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3080" y="9558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6 Performance 3/3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etwork element has limited capacity (x packets/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perator needs more capacity (e.g. 50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50 parallel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GGSN boxes are really independent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GSN handles its own area (list of 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grows linearly but complexity in each box remain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? Configu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77840" y="10666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to th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 GPRS Business View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676520"/>
            <a:ext cx="723924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1. What must be invested to get GPRS up and run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2. How to launch GPRS with minimised incremental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. How to make money with GP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4. Users' benefits of 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5. Busin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5.1 What must be invested to get GPRS up and running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n existing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S, BSC, MSC/HLR, O&amp;M, billing system, network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ly new network for GPRS backbone, based on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packet network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ot of Internet "stuff" (routers, DNS servers, firewalls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ly new skil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Internet way" of 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obiles and new type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ype of business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1. What is GPRS 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GSM phase 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cket Radio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-&gt; not restricted to GSM use (DECT ?, 3rd generation systems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Radio -&gt; enables packet mode communication over a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, not System -&gt; existing BSS (partially also NSS) infrastructure is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any new network elements into N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connections to external packet data networks (Internet, X.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are reserved only when needed and charged according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setup times are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new service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5.2 How to launch GPRS with minimised incremental cos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GSN/GGSN combined functio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Ss support basic GPRS services with software update only, BSCs need HW upgrade to add connection to SG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paging and control channels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number of radio channels avail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 interface can be deleted =&gt; no MSC develop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3. How to make money with GPRS?</a:t>
            </a:r>
            <a:br>
              <a:rPr sz="3200"/>
            </a:b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ubs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ways to get money from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intances to pay instead of the users (e.g. adverti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ways to get money from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ata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data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payments per packet, but huge number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4. Users' benefits of GPRS</a:t>
            </a:r>
            <a:br>
              <a:rPr sz="3200"/>
            </a:b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Selling arg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apacity Internet 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to 171,2 kbps in theory,  40 kbps in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er access t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et up time, Iternet access all the time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 rate or volume based 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no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667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a anonymous access (somebody else pays the bi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5. Business model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/2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88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s are paying little (or nothing), how does this make profit to the opera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the high cost per time but the large number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body else may pay the bill (e.g. anonymous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14400" y="3962520"/>
          <a:ext cx="7848720" cy="154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62520"/>
                    <a:ext cx="784872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062000" y="35053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busin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5. Business model 2/2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127240" y="2157480"/>
          <a:ext cx="4888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240" y="2157480"/>
                    <a:ext cx="4888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673640" y="144792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 GPRS Standardization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7640" y="1523880"/>
            <a:ext cx="7180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hase 1: Release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t of GPRS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hase 2: GPRS for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issues defined in stage 1 documents are not included in the first release of the GPR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have been pointed out for 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8400" y="441972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was approved March/Jun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5302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1 List of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30280" y="16765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ompanies and organizations have been participating in GPRS work in last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anufacturers, operators and others participating GPRS standard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atel, BT, CNET, CSELT, Detemobil, Eplus, Ericsson, France Telecom, IBM, Inmarsat, Lucent, Mannesmann, Motorola, NEC, Nokia, Nortel/Matra, Omnipoint, OPI, Philips, SFR, Siemens, Telecom Finland, Telia, UIC, Vodaf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ponsored project team PT8OV to expedite GPRS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PT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6.2 GPRS Specific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635120" y="1036800"/>
          <a:ext cx="5994360" cy="52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036800"/>
                    <a:ext cx="599436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2. GPRS access interfaces and reference poi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95160" y="1476360"/>
          <a:ext cx="773136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476360"/>
                    <a:ext cx="773136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4876920"/>
            <a:ext cx="67053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provides packet switched connections from MS to packet data networks (PD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158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perator’s GPRS networks are connected through Gp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3. How is GPRS seen by external networks and GPRS users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27000" y="1432080"/>
            <a:ext cx="7556760" cy="47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6000" y="3013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4. Air interface resourc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84440" y="1498680"/>
          <a:ext cx="5469120" cy="41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4440" y="1498680"/>
                    <a:ext cx="54691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520" y="1163520"/>
            <a:ext cx="33498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occupied TCH capacity by CS traffic during busy hour with n%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63520" y="4143240"/>
          <a:ext cx="299088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520" y="4143240"/>
                    <a:ext cx="29908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447920" y="4241880"/>
            <a:ext cx="444240" cy="40644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27200" y="1728720"/>
            <a:ext cx="2359080" cy="25495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0520" y="4702320"/>
            <a:ext cx="3222360" cy="12794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1920" y="876240"/>
            <a:ext cx="5587920" cy="534672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327560"/>
            <a:ext cx="37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occupied by CS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56240" y="2003400"/>
            <a:ext cx="117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360" y="2163600"/>
            <a:ext cx="2642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"steals" any 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not used by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776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5. GPRS characteristic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53600" y="1218960"/>
            <a:ext cx="670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uses packet switched resourc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llocated only when data is to be sent/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channe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o eight time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resources shared by a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and down link channels reserv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and circuit switched GSM services can use same time slots 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haracteristics suitable for 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, bursty data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transmissions of small volum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transmission of larger volum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7:18:48Z</dcterms:created>
  <dc:creator>Tuomas Niemelä (NTC/RAS/BSC)</dc:creator>
  <dc:description>BSC -module training slides</dc:description>
  <dc:language>en-US</dc:language>
  <cp:lastModifiedBy>Petteri Lappalainen</cp:lastModifiedBy>
  <cp:lastPrinted>1998-11-23T09:31:38Z</cp:lastPrinted>
  <dcterms:modified xsi:type="dcterms:W3CDTF">1998-11-23T10:01:56Z</dcterms:modified>
  <cp:revision>32</cp:revision>
  <dc:subject/>
  <dc:title>General Packet Radio Service (GPRS)</dc:title>
</cp:coreProperties>
</file>